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E2B-ED12-4671-8E88-BFE7550C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9F5-F1D5-488F-8CB9-65A1C14C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D55-80CB-49A0-8DDA-1F4D7F5F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C0C-DD25-4E4C-908A-31FF5C7B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277-F332-4CFA-B3E4-C5D6D7B1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ED67-D416-4474-AEB3-1DC76FFF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2FD3-6795-420A-A913-354EA90E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986-E57E-4CE7-8F9A-BE4618DA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894-F4C1-48CF-94A3-5A0565DD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B92D-E1DB-4A1E-B18B-373BE67F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E11D-0DCD-4230-93CE-61DE293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042-ED8A-48F0-BF2C-1FD99C71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8A16-FE36-442D-833B-B932C1CB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1BC1-38AB-4E6C-A10E-6AED861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0235-07AC-43BE-A413-B935915A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ACDB-8FAF-4532-A5EA-DA40047B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7DBF-97DE-47B3-8455-B481E1EC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5E1-238C-4364-A74B-29C97A0B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ABA-505F-4819-A703-8AF57E8B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1EF-66F1-45C5-B1B0-128355A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14C-92E2-488E-AA48-82C4A8D4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46C-C0C2-44DF-8EC6-520EBF8A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82B-B7AA-4E44-B0A8-A9563FC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EB0-8F6E-43E7-85FA-64ED954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2E23-D535-4BD2-B4D3-A2F9D7E59E80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3AE-6D91-41C1-8BD0-C57A0B0018F1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99080" y="2730600"/>
            <a:ext cx="34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1066680" y="1600200"/>
            <a:ext cx="6934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Sandbar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120" y="5333760"/>
            <a:ext cx="5715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long ridge of sand in a river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 near a sho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38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6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443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Talus Slop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5105520"/>
            <a:ext cx="73152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cone-shaped deposit at the bottom of a hill or mountain caused by grav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181480" cy="34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7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96040" cy="438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Delta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5334120"/>
            <a:ext cx="77724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s a finger-shaped deposit of sediments at the mouth of a riv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377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8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1560" y="1600200"/>
            <a:ext cx="685944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Leve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4952880"/>
            <a:ext cx="701028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ridge-like deposit of sediments on a floodplai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9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230800" cy="347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Drumli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n oval-shaped deposit of glacial til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27400" cy="279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1. What is this general category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of deposition called?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67200" y="1600200"/>
            <a:ext cx="30081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Beach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a deposit of sand next to a body of water, such as a river or ocea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048120" cy="406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n Alluvial Deposi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362320" y="5181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rock debris transported and deposited by a riv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800440" cy="373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3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896080" cy="369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Floodplain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54100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a flattened deposit on both sides of a river caused by a floo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684760" cy="360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2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803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Sand Dun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7619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  a mound of sand deposited by win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1148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3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67680" cy="424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Loess (pronounced ‘less’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eposit made of fine layers of glacial silt and sand which are deposited in the same area by the action of win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29019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4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48520" cy="445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 Glacial Morain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696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moraine is a ridge of till deposited at the front or side edge of a glacier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354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5. What is this deposition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867640" cy="440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21:05:01Z</dcterms:created>
  <dc:creator>Eric Knapp</dc:creator>
  <dc:description/>
  <dc:language>en-US</dc:language>
  <cp:lastModifiedBy>staff</cp:lastModifiedBy>
  <dcterms:modified xsi:type="dcterms:W3CDTF">2008-01-07T15:29:26Z</dcterms:modified>
  <cp:revision>141</cp:revision>
  <dc:subject/>
  <dc:title>Depositions are Everywhere!</dc:title>
</cp:coreProperties>
</file>